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85F9-87BD-4D03-9E3C-BD64C0941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020C-4AC8-464B-8E9D-C5B3D5DD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E52F-0A7A-4940-B441-A5E200C74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4356-2139-4869-B5B8-9C47A89FB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AE17-7C14-42DC-BB73-6E9C5689A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992D-901E-432E-A166-E4408236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8142-8831-45C2-AEED-AF6BAF76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C57B-4210-4A0A-B50A-7454F968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5275-515E-46D7-A08B-215B7703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53C7-54A8-45FA-B7EA-365E2A4C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0FE6B-2D27-4B94-B5A9-9FEDAE12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568A-87B2-4E75-9EF2-E9242A98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9B329-E38A-40AB-9544-5EB383C4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8CE9-F574-434D-9CC5-DD42D2AB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B3AF-C2E6-4F04-A08A-D8BDC6C3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3445-0A5F-463E-87D0-36B69C041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B416-EDA9-4D1F-8BDD-F61A00A2F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64FF-F982-4174-91D7-84957240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BCDE-DDB1-4468-8CBB-19D2987E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16B7-1A12-47E0-B7E4-7A87ED78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9CAD-795F-4B91-AF3A-311A1B0C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D0ED-8CDF-4636-B5B1-A66AE235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3632-7443-4B9D-A9AD-AC9F585F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2CC4-00ED-4C2F-B011-6DD92E86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48D4-BF8F-4A5D-8108-D433D617516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D39E-D73E-4B80-BE16-5F1D73B6F7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hyperlink" Target="http://gotvach.bg/n8-12004-&#1057;&#1086;&#1083;" TargetMode="External"/><Relationship Id="rId6" Type="http://schemas.openxmlformats.org/officeDocument/2006/relationships/hyperlink" Target="http://gotvach.bg/n7-18247-&#1041;&#1088;&#1072;&#1096;&#1085;&#1086;" TargetMode="External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5900760" cy="1079640"/>
          </a:xfrm>
          <a:prstGeom prst="rect">
            <a:avLst/>
          </a:prstGeom>
          <a:solidFill>
            <a:srgbClr val="f2acb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А СЕ ХРАНИ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842920" y="5229000"/>
            <a:ext cx="6194520" cy="105876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ЗДРАВОСЛОВН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2590920" cy="14922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492360" y="911520"/>
            <a:ext cx="39499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Белтъчини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яйце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чаша мляко - кисело или прясно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 грама пъстърва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 грама пилешко месо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грама - боб, леща, сурови ядки</a:t>
            </a: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Зеленчуци и плодове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 грама краставици или домати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 грама спанак, лапад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ябълка, круша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2 грейпфрут</a:t>
            </a: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ъглехидрати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филия пълнозърнест хляб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грама макарони /паста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грама ориз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грама картофи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бан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867280" y="5300640"/>
            <a:ext cx="3171960" cy="1438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0" y="2997360"/>
            <a:ext cx="2286000" cy="19047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116000" y="4971960"/>
            <a:ext cx="2419200" cy="18860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350880" y="189000"/>
            <a:ext cx="16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невно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95280" y="4365720"/>
            <a:ext cx="4032360" cy="2120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059280" y="1548000"/>
            <a:ext cx="5329080" cy="2838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рани се правилно и здравословно!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менно храната е източника на енергия за нашето тял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ички хранителни вещества, които поемам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магат на организма ни 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ункционира правилно и да бъде здрав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2054160" cy="2735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5292720" y="4581360"/>
            <a:ext cx="3382920" cy="2187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097280" y="6400800"/>
            <a:ext cx="52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ра Атанасова СОУ”Екзарх Антим І” Казанлъ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04036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ка наречен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"Пирамида на здравословното хранене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оказва приблизително съотношението между храните от всяка груп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обходими на организма 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поръчва се да наблягаме на храните от основата на пирамида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да приемаме по-малко от тези към върха й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68800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знин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азнините съдържат мастноразтворими витамини и осигуряват важни за клетъчната структура мастни киселини. Все пак не е препоръчително мазнините да бъдат повече от 30-35% от общите калории. За предпочитане са мазнини от тлъсти риби, пресни ядки, житни продукти, студено-пресовани масл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508720" y="3500280"/>
            <a:ext cx="3166920" cy="2494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700360" y="511488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95280" y="3284640"/>
            <a:ext cx="223380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2447640" cy="1836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203640" y="4653000"/>
            <a:ext cx="2523960" cy="1809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6156360" y="4221000"/>
            <a:ext cx="2590920" cy="1762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55640" y="407664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276720" y="1399320"/>
            <a:ext cx="4821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хар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 сочена за една от трите бели отрови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сол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ха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8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брашно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ри и знаейки това, хора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 хилядолетия консумират заха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щото сладкият вкус е много по-приятен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мамлив и предпочитан от горчи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-66600" y="262080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8"/>
          <a:stretch/>
        </p:blipFill>
        <p:spPr>
          <a:xfrm>
            <a:off x="-66600" y="2620800"/>
            <a:ext cx="1904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476360" y="4005360"/>
            <a:ext cx="6696000" cy="2430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116000" y="1036800"/>
            <a:ext cx="7488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еленчуци и плодове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 са безценен източник на витамин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инерали и фибри. Хапвайте различни видове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реноплодни, листни, стеблени зеленчуци и плодов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бирайте си и различни цветове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еки от този пигмент е различно полезно веществ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апвайте 2-4 порции плодове и 3-5 зеленчуци дневно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24000" y="1508040"/>
            <a:ext cx="3276360" cy="2424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708360" y="1269000"/>
            <a:ext cx="5184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елтъчини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теините са жизнено необходими 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тежа и възстановяването на клетк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образуването на ензими и хормо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обновяването на клетки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всички възрастови груп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Ще ги намерите в птичето и по-крехкото мес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ибата, яйцата, млечни произвед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бовите растения, ядки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сумирайте 4-6 порции дневно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55640" y="4141800"/>
            <a:ext cx="4032360" cy="23335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364000" y="4076640"/>
            <a:ext cx="331344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520" y="1843560"/>
            <a:ext cx="4505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ъглехидратит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 неотменим елемен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всички храни и главен доставч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енергия за организ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4000" y="3716280"/>
            <a:ext cx="5111640" cy="2473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012000" y="1484280"/>
            <a:ext cx="2609640" cy="2160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508720" y="3860640"/>
            <a:ext cx="307332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0T14:13:45Z</dcterms:created>
  <dc:creator>Home</dc:creator>
  <dc:description/>
  <dc:language>en-US</dc:language>
  <cp:lastModifiedBy>Home</cp:lastModifiedBy>
  <dcterms:modified xsi:type="dcterms:W3CDTF">2013-04-20T15:16:32Z</dcterms:modified>
  <cp:revision>2</cp:revision>
  <dc:subject/>
  <dc:title>ДА СЕ ХРАНИМ </dc:title>
</cp:coreProperties>
</file>